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7D8-4202-42CD-A3F2-CC2FB2B84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D46A-C1DB-4A01-B015-C058E5F30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78A5-3628-466F-B3F1-4E9C6C079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7C2F-7DE4-482E-8E06-1558B90D5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BE2A-92E5-4B21-8330-1E57A26B3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1AFE-BB16-42CD-BAD9-F17103D50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C198-AF15-411F-8CA2-820BB1B46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8208-4788-4F9F-BE3C-4BC22940C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2D2D-1DE9-4627-8ADA-3D66B2DF8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4E79-5DC6-45AF-B86C-63CF8F134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DE83-FB45-431A-A54E-B5612BF99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FEE3-EAA6-46A9-B963-B8C939D81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B126-B8B4-4A97-B116-3BD44FE72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urvey Data Analysis Module 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E357-ABBC-46E1-9A0D-AA40F09D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Univariate analysis: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rveysystem.com/sscalc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accurate we think that our frequency percentag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fidence interval states a range either side of the sample’s frequency figure, in which we are confident the “real” figure would lie if tested out on the whole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d a lot in political opinion polls during el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abour’s polling is 44%, plus or minus 3%.  The 3% is the confidence interval.  We can be “sure” that the real answer is somewhere between 41% and 4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never 100% “sure” that the figure will lie inside this range, so statistically we usually test to ensure 95% 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we calculate that 19/20 times we will b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for the confidence interval depends upon the size of the sample, size of the population, and where on the 1-100% your frequency percentage 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populations, the population size isn’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cise formula for calculating 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the square root of:     (frequency x (100-frequenc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th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ily, there are websites that can calculate confidence intervals for us: e.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rveysystem.com/sscal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49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84280"/>
            <a:ext cx="813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:  Work out the confidence intervals for the following statistics.  What range of values can we be “sure” they will be within for the general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recent survey of 1249 parents in a nationally representative sample, it was found that 60% of respondents considered it acceptable to smack a child on their bottom with an open h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 of parents in the same study reported having used severe physical punishment (hitting with object, shaking, bit or pinched) on their child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 representative study of 1034 adults found that 79% considered smacking with the open hand as “justifi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Neal Hazel</cp:lastModifiedBy>
  <dcterms:modified xsi:type="dcterms:W3CDTF">2006-11-13T08:51:37Z</dcterms:modified>
  <cp:revision>86</cp:revision>
  <dc:subject/>
  <dc:title>Slide 1</dc:title>
</cp:coreProperties>
</file>